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C7CB-36A1-44AE-A3FB-87E3B0640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96F0-BD9A-4F4A-9B3F-C5B081BD2314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eek - Po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ED80-90D1-4ACB-BD3F-DCEE9909252C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S works in conjunction with podc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manteau:  blending of words, morpheme – stagflation, modem, brunch, netiquette, smog, spork. Lewis Carroll, Alice in Wonderland, Jabberwoc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aded on most MP3 players, depending on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47FA-0A50-4B5D-BD6C-F716D1418F0A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acity – this 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gets – well…  Look for the podcast I posted on Bb.  One is through the Bb podcast feature and one is through TribalSh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69F3-87CB-41E1-9426-05A55B32C0D5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 – Microsoft music format – industry atandard. – Powerpoint 2003 only supports WAV, but 2007 supports mp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?Napster – impossible w/o mp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y, some raw data is removed, but output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5E36-1EA1-4F26-BF04-F545DF3BC9BB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edit music, import sound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E encoder – a DLL that helps out Audacity.  It’s not built in, but once you associate the file, you’ll we good to go from then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obviously use for activities that don’t involve podcasting – spanish speaking points..  Archives.  Latin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B03E-9107-43AD-A096-C76774D1E6B3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quality:  you don’t need CD stereo quality for voice – I use 11.025, telephone quality for most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’ll see with Audacity and many other podcast systems, you are limited tho 10 MB per podcast.  If you go with CD quality, it’s 1 MB per minute, so 10 minutes.  You can go well over an hour with lower sample rates, with minimal degradation for our 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use Audacity, I’ll show you how to modify the sampl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40E6-8A88-4719-AC3F-9029E8B9B716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use podca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the link to wikipedia – from there you’ll find links to examples.  Warlick and Richardson also have some links in the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B6F-ADBB-46D3-A613-AD75B91F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7C2-923B-4408-BDE1-DA62AF64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5B207-A656-44BC-85F0-C3A6C2C6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F8BED-FEF3-49E9-929A-C269F75E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4538C-7536-403A-A0CC-C1BCDCDB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32F30-F9CA-4987-A094-E889128D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33A8D-BBD4-4593-80FD-C2068AB2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0668A-9296-48B9-BC1A-F0EDFC0D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1494B-07A1-4778-924D-24B020F8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1D22D-B049-4C70-92CB-5B622F5B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3E92A-6822-4749-915B-67E5BF90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81D2C-29E0-41AB-AA58-D4F00FE2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420-D6B5-4180-99D4-30E7FACD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05848-B435-4502-9EBC-FE2B63FC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C4C19-D60A-4394-9DC6-7B916BCC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B0815-B821-45D9-82CF-91C979E7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F6902-3750-4812-87E6-4D3C6313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835C6-DEEF-4FEB-814E-49149CDA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EA01D-3D1E-4F07-BE48-21448835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B35BD-BDE4-4D5A-AF5A-99D6068E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86EFC-7608-4910-BCCF-19D97B62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43567-E016-4529-B2E7-994D7069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90675-16EC-42BC-A3C6-FE5F201E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9D3-EDD3-422E-A333-298D9A0F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8A0CB-85E3-4BB7-972F-00D6569F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81567-78B6-40C2-AE4F-7659AC8A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73EA1-C36F-41AF-AB57-105845F6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542DB-61E7-45FC-AE78-42516B10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55B80-2C91-4DA0-AD1D-BFAB2DDF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6E236-D711-4ABF-A5D6-F6168B78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0F519-1402-45EE-86D7-EDC56942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8AB8C-66E9-4B89-A5CC-19EB3780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8A760-9DBE-4443-B849-9E6981AC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B2984-943B-4369-A870-67FAAE0F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076F-BA27-4DE3-BE8B-30D5EB8F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3D897-C1DB-4EAB-8355-2B25A235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F84AF-7194-4F49-83B1-9F1E27F1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FBF3B-724A-4256-AC21-96C62D2F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EB8BF-9CE0-437C-9735-4782D555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CEC71-8057-464C-AFFE-26691475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F3B5E-88D7-41C7-B008-DB50906D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D32A6-E622-440F-A86A-F3F983F8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F9907-C4CF-462D-B3BA-DFB8D198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40C6C-1011-459F-85B1-2CD50AFB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9EFBA-B6E0-49D0-871E-20D6FAAF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2301-11C3-453E-A1CC-EFF350CB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EE114-0F21-4C23-92A9-1B19A8AF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2726E-FC35-490D-8643-134F6CB9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06783-2461-4C98-9158-9922EE6C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C6B44-04B4-44B3-AAF0-958E70D1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2BE65-9725-4A36-A18A-E093D689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30C1-4DA9-4964-A1E1-1AA59034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A9A1-BFE9-4818-808D-60EC9004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EF84-685D-41F0-A1E8-F3521AAA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7A72-9421-48E2-B91A-1687332B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40B9-1CB9-4B2F-B7A1-A512A175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FB9-447A-460B-9188-F5C99A63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49C7-01CB-40F8-B48C-E0F34B43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63A8-F90C-415F-9A91-52C78E63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B778-837E-4DB4-A860-46400A13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794A-64EB-4E66-BC31-BE855A1E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9060-E96C-4D84-B6A1-C5254B86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EF57E-D08C-49E6-9FB3-43F0836A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5C2B-5146-4740-893A-15399CD3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8DEBE-93E0-4BE8-8C30-D58791FA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D3FB-E3C0-467B-88EB-E2E047BB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EE1C-0D45-41BA-9F3E-86E00138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B09-32C1-47C3-B813-40771106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825BD-CBCC-410E-8429-50450BD9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A055-E5CB-43AD-819F-9F4468D0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6E5A5-90F7-43EE-A91D-8F4A3E3D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19D68-93B9-48AC-A5AC-3E2293CD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41462-C6A1-4CBC-B04B-F53306AE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68A85-2539-4861-B199-9A1094C1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2E8DE-A449-431C-93DC-A6BF7A7E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836DD-2A8C-4A65-9589-D7B46820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6FE2B-9AD4-467F-999D-4BECC868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701FC-4878-4A13-BA40-C1DF391C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1E52-5054-429D-B95E-9D8E5091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F2787-E026-46E1-9C56-D2FB8349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C6280-74E7-4AFD-B96B-6C32209F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D234D-D101-427B-AA92-7302FDC3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CD166-12B9-448D-8169-CF5DA949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48B95-6B1B-40DA-85CE-777D2C06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CEA44-F1DE-4CEE-ACCA-34AA5479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788E0-954A-4984-AED8-2202EDDE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2FEF0-B7F1-4CFC-A312-4EE5921F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DC1AB-DE72-42C0-9977-13A8720A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648A5-81EB-47ED-A2C8-B8C6933C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D3F-9B43-472B-B2FF-391A4784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F8482-B68D-405E-8092-41AD7AFE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4850A-2234-4F9C-9B28-CA1BB7D0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D3A2B-8F7D-4BA9-82F6-F6A16625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D3CA8-D5B4-4BF1-BA2E-56DD0A15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8A390-7FBF-4F7D-B780-096D4C4B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D451B-E3F2-4979-8A9B-3CE057FA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02928-B77E-4473-BF1D-AAB88604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B1EA5-8AB7-4854-ADAD-0FA5177F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8ECD0-1BAD-4C2E-8298-08FDF7D8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F4166-309E-4A15-8B52-F2B8256A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4E2-2E4B-4831-B563-A3AC304E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208D8-35A8-4886-8755-0F857A0C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56B93-3274-48C2-91E0-FCE75749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6D5D1-CF52-4519-9A84-AF65BE86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BFE99-3F7D-47E1-ACE3-603FE7AD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2A03A-694B-4F2E-AE71-1CFDC40D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6F7D3-C100-42AB-874F-E0C9D1B2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0E8DB-9749-44F1-AF48-47915144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06D21-28DB-4D63-9686-98EA79D4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8DE8D-25C8-42E7-80E7-6D3B7B26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45784-C37A-4F2B-A88C-56B10977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0F1-1A1A-4DC2-9F11-89763284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FC2A3-D908-4214-9667-E0A33EC6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72B13-81FB-4F13-836F-69C0F074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FBF72-0FB6-49B2-A0A2-172ADF9E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35DA7-2B1C-48AE-8458-578923A0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F5BD9-574C-4E77-83DE-60359CD3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073D9-E1A2-42C5-A4C1-75E315BA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CFBDE-26C1-443B-AA8C-DBEF8E31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C7E53-5FC8-43EF-A9DC-950A963B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2BCA0-259A-49C4-8A5B-FC955BE6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C707C-27AD-43DD-A668-FDDDE211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CD2-7C60-42E0-8336-A4333641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4F2DA-6626-4321-B314-13B8CA65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F784D-4FAC-4AF1-AB68-157606DE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97C64-248E-4BEE-951B-954DE5EE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8013D-7B93-4E26-BC68-45A79DA2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8D119-B0C2-4B3B-A9B7-BBC8A344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86BA9-1E54-4E29-8FD7-71A20695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44E4D-D57B-463D-ADC0-2CEA4F5A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27601-9C9A-4BFE-8F28-CA5A412D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E980B-7318-4227-ACA0-CE79CD0A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4B985-745E-4A5B-A62A-3A405395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97D-27CE-425C-A319-13CFFA22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6E4DC-2259-486A-9F56-99A69931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97194-2906-4693-B6E6-DFF35981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A98DB-0ACB-4F7E-9311-54977C62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39AD1-B9A5-4C67-AA7B-00CD2FFB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2C32E-A690-4755-8010-E619F479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4159D-9DDB-4FDA-BA02-C76765D7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FD21E-2630-47D6-9B04-A446A34F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A428F-776E-4351-98DF-70C5F937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6FCD2-AE1B-4726-AC52-EDBE3566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93A0E-0A74-4A93-86D0-9218308E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4A5C-E6C0-485B-8423-5648ABACC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3372-D4EA-4440-8F21-DE523CA03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6747-400D-4411-8B39-4EE585E7E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6738-20E4-4AC6-9499-E8C978542905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8081-9A11-4740-9D2E-CF1D71D1D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4171-2577-4440-A0E6-DC58E78FA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0C3A-4443-4838-BB6D-CEA6FFEF9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0451-BE03-4F28-BFAE-6B9A5C776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0AF4-660F-46A5-94E1-AF0B1FC32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0BDD-7276-4B3E-925B-630D2335F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4BAA-33C6-484F-9627-989558837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DDDD-537D-40F0-9924-4992B33B7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eb_syndication" TargetMode="External"/><Relationship Id="rId2" Type="http://schemas.openxmlformats.org/officeDocument/2006/relationships/hyperlink" Target="http://en.wikipedia.org/wiki/Web_feed" TargetMode="External"/><Relationship Id="rId3" Type="http://schemas.openxmlformats.org/officeDocument/2006/relationships/hyperlink" Target="http://en.wikipedia.org/wiki/Portmanteau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at is Web 2.0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4920" y="4971600"/>
            <a:ext cx="86104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0808"/>
                </a:solidFill>
                <a:latin typeface="Tahoma"/>
              </a:rPr>
              <a:t>Podcasting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5391360" cy="38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odcast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podcast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is a digital media file, or a bunch of such files, that is distributed over the Internet using </a:t>
            </a:r>
            <a:r>
              <a:rPr b="0" lang="en-US" sz="2800" spc="-1" strike="noStrike" u="sng">
                <a:solidFill>
                  <a:srgbClr val="377b89"/>
                </a:solidFill>
                <a:uFillTx/>
                <a:latin typeface="Tahoma"/>
                <a:hlinkClick r:id="rId1"/>
              </a:rPr>
              <a:t>syndication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feeds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, RSS, for playback on portable media players and personal computers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lso known as an audio blog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term "podcast" is a </a:t>
            </a:r>
            <a:r>
              <a:rPr b="0" lang="en-US" sz="2800" spc="-1" strike="noStrike" u="sng">
                <a:solidFill>
                  <a:srgbClr val="377b89"/>
                </a:solidFill>
                <a:uFillTx/>
                <a:latin typeface="Tahoma"/>
                <a:hlinkClick r:id="rId3"/>
              </a:rPr>
              <a:t>portmanteau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of the words "iPod" and "broadcast "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Originally from iPod, but POD now means Playable on Demand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n iPod is optional, not required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odcast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xisting educational podcasts available for free use in all subject area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free program, Audacity, allows you  to create mp3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idgets allow podcasts to be embedded in a Web page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odcasts (online delivery of video) are possible, but more difficult to implement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udio for the Web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odern distribution of music across the Internet through on-line stores depends on digital recording and digital compression algorithm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P3 – layer three of MPEG (Motion Pictures Expert Group)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P3 is 10-12 times smaller than a WAV (Waveform audio format) file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P3 uses lossy compression, much like a JPEG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udacity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 free recording application that can create WAV and MP3 files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racks are separate recordings of multiple sound sources to create a cohesive whole similar to layers in a graphics program; this allows for greater flexibility and creativity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xporting MP3s requires the LAME encoder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AME is a free DLL file used to encode audio into the MP3 file format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ample Rat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3382920" cy="18478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2"/>
          <a:stretch/>
        </p:blipFill>
        <p:spPr>
          <a:xfrm>
            <a:off x="1523880" y="3048120"/>
            <a:ext cx="3364200" cy="18367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"/>
          <p:cNvPicPr/>
          <p:nvPr/>
        </p:nvPicPr>
        <p:blipFill>
          <a:blip r:embed="rId3"/>
          <a:stretch/>
        </p:blipFill>
        <p:spPr>
          <a:xfrm>
            <a:off x="1523880" y="5025960"/>
            <a:ext cx="3353040" cy="183204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10"/>
          <p:cNvSpPr/>
          <p:nvPr/>
        </p:nvSpPr>
        <p:spPr>
          <a:xfrm>
            <a:off x="5029200" y="1371600"/>
            <a:ext cx="3773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Radio Quality is adequate for most voice recording; you do not need 16 bit stereo.  A four minute song recorded at CD quality would take around 41,280 KB, that is, 41 MB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MP3 compression (10X) would make the same song about 4 MB, without loss of quality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Go Napster – and iTune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ducational Us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irect instructio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rofessional Developmen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ligious Educatio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tudent created work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terview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Journalis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adio Program – original music</a:t>
            </a:r>
            <a:br>
              <a:rPr sz="2800"/>
            </a:br>
            <a:br>
              <a:rPr sz="2800"/>
            </a:br>
            <a:r>
              <a:rPr b="0" lang="en-US" sz="1400" spc="-1" strike="noStrike">
                <a:solidFill>
                  <a:srgbClr val="080808"/>
                </a:solidFill>
                <a:latin typeface="Tahoma"/>
              </a:rPr>
              <a:t>http://en.wikipedia.org/wiki/Uses_of_podcasting#Education_and_Academia</a:t>
            </a:r>
            <a:endParaRPr b="0" lang="en-US" sz="1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6:56:04Z</dcterms:created>
  <dc:creator>Paul</dc:creator>
  <dc:description/>
  <cp:keywords/>
  <dc:language>en-US</dc:language>
  <cp:lastModifiedBy>MSJ</cp:lastModifiedBy>
  <dcterms:modified xsi:type="dcterms:W3CDTF">2009-02-09T17:52:14Z</dcterms:modified>
  <cp:revision>112</cp:revision>
  <dc:subject/>
  <dc:title>Podca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